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0F0B-BE60-4F80-B478-3A24538E4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F846-AC69-4108-8BFF-2FF46EF8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F311-7BCD-4C71-BF4B-4BA644FAD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FF62-DBA6-47B0-8F4F-EBD50061B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64B6-2AC8-4329-AC94-65C790C9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275A-2D2E-4A8B-A8BA-CC5A76BC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6E4C-EE10-417F-885C-792F774B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4D5D-66F0-47FD-A79A-7051A47B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B127-1DF9-4BCF-91A0-8FB3CE87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5956-B6C3-4586-85B4-3FA0C9C2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327C-BE5E-4EFF-9BBD-B2B29BFC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852C-E9A6-46F8-BD6B-A22FEE48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7B8F-04E5-4051-8549-7757CDC21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19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¿Cuántos adjectivos podéis encontrar para describir El Babuin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58760" y="3267000"/>
            <a:ext cx="3495600" cy="3086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rot="20083800">
            <a:off x="2198160" y="3788640"/>
            <a:ext cx="187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¡Piensa 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abl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95280" y="981000"/>
          <a:ext cx="8424360" cy="5616360"/>
        </p:xfrm>
        <a:graphic>
          <a:graphicData uri="http://schemas.openxmlformats.org/drawingml/2006/table">
            <a:tbl>
              <a:tblPr/>
              <a:tblGrid>
                <a:gridCol w="2106360"/>
                <a:gridCol w="2105640"/>
                <a:gridCol w="2106000"/>
                <a:gridCol w="210636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á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324000" y="33336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¡Piensa y Habl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395280" y="981000"/>
          <a:ext cx="8424360" cy="5616360"/>
        </p:xfrm>
        <a:graphic>
          <a:graphicData uri="http://schemas.openxmlformats.org/drawingml/2006/table">
            <a:tbl>
              <a:tblPr/>
              <a:tblGrid>
                <a:gridCol w="2106360"/>
                <a:gridCol w="2105640"/>
                <a:gridCol w="2106000"/>
                <a:gridCol w="210636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j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á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324000" y="33336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¡Piensa y Habl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18:31:40Z</dcterms:created>
  <dc:creator>Helen</dc:creator>
  <dc:description/>
  <dc:language>en-US</dc:language>
  <cp:lastModifiedBy>Helen</cp:lastModifiedBy>
  <dcterms:modified xsi:type="dcterms:W3CDTF">2010-05-02T22:08:17Z</dcterms:modified>
  <cp:revision>4</cp:revision>
  <dc:subject/>
  <dc:title>¿Cuántos adjectivos podéis encontrar para describir El Babuino?</dc:title>
</cp:coreProperties>
</file>